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B665-91BC-49F3-BA60-4AD98D11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58294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5114520"/>
            <a:ext cx="58294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622E-D26D-4285-895C-D040C1CD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67272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2780-712C-4463-BBB9-6102EF90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656440" y="19303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27080" y="19303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51145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656440" y="51145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627080" y="51145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54D5-EEBE-430B-9AE6-EB63EB64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6164-5728-4300-B174-89253A49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440" y="1930320"/>
            <a:ext cx="58294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871C-E9B8-41C7-A174-B5A677E0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5829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93D1-A828-4776-8F10-6AF70414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DBD6-FA39-4886-9ADF-7A8633A3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47BD-B918-4788-9222-1DE66E59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366480"/>
            <a:ext cx="58294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6D3F-D091-4603-B627-BCE92821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A666-60BF-41A2-8C5D-FB6472D3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930320"/>
            <a:ext cx="58294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FED5-2A5E-43B9-9D01-5DEFFE14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7272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FD68-A070-475A-A8EB-CA928EDE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5114520"/>
            <a:ext cx="58294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EE80-18E0-48A7-A485-DCD70952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58294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440" y="5114520"/>
            <a:ext cx="58294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D8CC-961A-4101-84BE-8D3CC5A1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44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7272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FD79-D195-4625-A2D8-0C10C984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656440" y="19303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27080" y="19303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440" y="51145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656440" y="51145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4627080" y="51145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EF34-C58F-46E7-AB97-88FDE521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E2574-9D9C-4D76-AACD-84FFB64E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440" y="1930320"/>
            <a:ext cx="58294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67189-5790-43E9-8168-553F0914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5829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DAF41-5262-46E8-B490-5D02212A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384CA-EC07-4B8D-84E9-06B8B380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00298-91DE-4662-8B84-152D6516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5829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5E70-C006-48B6-B2D7-0A96F7DA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440" y="366480"/>
            <a:ext cx="58294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C3A30-856D-4A0E-8168-2B9DF632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44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49C44-9D28-4666-9234-08B5CFF0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67272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F5AE0-03B4-4F6F-A47F-C94AA5F7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440" y="5114520"/>
            <a:ext cx="58294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A8F56-BABC-466A-9994-DD24FA0D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58294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440" y="5114520"/>
            <a:ext cx="58294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A0D16-BC47-4F74-A239-9EEF0B72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44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67272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EEE8F-EEB1-442E-9A40-45BA6E82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656440" y="19303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27080" y="19303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440" y="51145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656440" y="51145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4627080" y="51145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CC330-A0B9-4A59-9D2A-602ABCC3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77EC8-D926-41A4-96E7-B3883123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440" y="1930320"/>
            <a:ext cx="58294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8A943-4B7D-494D-A143-3ED1E43C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5829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21EA6-08B9-4B63-8E32-98F15D05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E869-7530-4979-9A40-AB812258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3A493-DD62-4E66-A4BB-6AF203D2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E129A-CF9C-4389-8D7E-42E52414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85440" y="366480"/>
            <a:ext cx="58294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F2838-A307-48A0-B423-9BB8AC1A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44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CBD81-E293-492C-8984-E97E9DF3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67272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48D38-1568-484F-B213-BEF1CBDA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440" y="5114520"/>
            <a:ext cx="58294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D4285-30EB-4F1D-8F54-BEBD3FC5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58294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5440" y="5114520"/>
            <a:ext cx="58294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BA354-43DB-47CE-B2FD-AE6F7450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44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67272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27F88-4C2E-4EEC-9623-61912F2F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656440" y="19303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27080" y="19303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85440" y="51145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656440" y="51145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627080" y="51145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F7F0F-1BA8-423F-A0E0-B0AB55E5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C19FC-3BA4-4961-BF7D-E6F07488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8D4-0A2F-4282-B209-A453A928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85440" y="1930320"/>
            <a:ext cx="58294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1A227-FC2B-4CC7-B279-1D8FA259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5829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BC238-0E43-45B5-BB75-D1B29F64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E0CD6-6598-4899-B317-C4202F38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53916-13AF-4EA9-8A39-784CC0AB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85440" y="366480"/>
            <a:ext cx="58294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AABD9-EED3-4A59-8D08-CB92D14F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44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533C0-C303-47E7-B6E1-61E18AD7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67272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32143-9302-4568-8740-7442895F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440" y="5114520"/>
            <a:ext cx="58294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C2ABD-1696-4154-8454-190B788E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58294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85440" y="5114520"/>
            <a:ext cx="58294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1E18C-36B9-41D8-82AC-DDD1C251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44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67272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5B88F-097A-42D6-BFCA-615CFBB7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366480"/>
            <a:ext cx="58294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869E-787F-4EEA-9E3E-89C3ABC4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2656440" y="19303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27080" y="19303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85440" y="51145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2656440" y="51145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4627080" y="51145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1D190-0796-404B-849F-204D00FF3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D80-5C31-4D92-BC9E-2B6640EC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67272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7929-22FE-48D6-B2F3-483C0698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5114520"/>
            <a:ext cx="58294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16C-0C7E-4135-8723-31BE8284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Rectángulo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Rectángulo redondeado"/>
          <p:cNvSpPr/>
          <p:nvPr/>
        </p:nvSpPr>
        <p:spPr>
          <a:xfrm>
            <a:off x="47520" y="93600"/>
            <a:ext cx="6761160" cy="8923320"/>
          </a:xfrm>
          <a:custGeom>
            <a:avLst/>
            <a:gdLst>
              <a:gd name="textAreaLeft" fmla="*/ 97560 w 6761160"/>
              <a:gd name="textAreaRight" fmla="*/ 6663600 w 6761160"/>
              <a:gd name="textAreaTop" fmla="*/ 97560 h 8923320"/>
              <a:gd name="textAreaBottom" fmla="*/ 8825760 h 8923320"/>
            </a:gdLst>
            <a:ahLst/>
            <a:rect l="textAreaLeft" t="textAreaTop" r="textAreaRight" b="textAreaBottom"/>
            <a:pathLst>
              <a:path w="21600" h="28507">
                <a:moveTo>
                  <a:pt x="1065" y="0"/>
                </a:moveTo>
                <a:arcTo wR="1065" hR="1065" stAng="16200000" swAng="-5400000"/>
                <a:lnTo>
                  <a:pt x="0" y="27442"/>
                </a:lnTo>
                <a:arcTo wR="1065" hR="1065" stAng="10800000" swAng="-5400000"/>
                <a:lnTo>
                  <a:pt x="20535" y="2850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440" y="1930320"/>
            <a:ext cx="5829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628880" y="8254800"/>
            <a:ext cx="1857240" cy="63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85440" y="8229240"/>
            <a:ext cx="2971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59120" y="8369280"/>
            <a:ext cx="243000" cy="4309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6826-92AF-4394-A041-BA1470D4881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9 Rectángulo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 redondeado"/>
          <p:cNvSpPr/>
          <p:nvPr/>
        </p:nvSpPr>
        <p:spPr>
          <a:xfrm>
            <a:off x="49320" y="93600"/>
            <a:ext cx="6759360" cy="8921880"/>
          </a:xfrm>
          <a:custGeom>
            <a:avLst/>
            <a:gdLst>
              <a:gd name="textAreaLeft" fmla="*/ 97560 w 6759360"/>
              <a:gd name="textAreaRight" fmla="*/ 6661800 w 6759360"/>
              <a:gd name="textAreaTop" fmla="*/ 97560 h 8921880"/>
              <a:gd name="textAreaBottom" fmla="*/ 8824320 h 8921880"/>
            </a:gdLst>
            <a:ahLst/>
            <a:rect l="textAreaLeft" t="textAreaTop" r="textAreaRight" b="textAreaBottom"/>
            <a:pathLst>
              <a:path w="21600" h="28510">
                <a:moveTo>
                  <a:pt x="1065" y="0"/>
                </a:moveTo>
                <a:arcTo wR="1065" hR="1065" stAng="16200000" swAng="-5400000"/>
                <a:lnTo>
                  <a:pt x="0" y="27445"/>
                </a:lnTo>
                <a:arcTo wR="1065" hR="1065" stAng="10800000" swAng="-5400000"/>
                <a:lnTo>
                  <a:pt x="20535" y="28510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47520" y="1932120"/>
            <a:ext cx="6766200" cy="20365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47520" y="1862280"/>
            <a:ext cx="6766200" cy="1602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47520" y="3968640"/>
            <a:ext cx="6766200" cy="14760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440" y="1930320"/>
            <a:ext cx="5829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628880" y="8254800"/>
            <a:ext cx="1857240" cy="63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85440" y="8229240"/>
            <a:ext cx="2971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59120" y="8369280"/>
            <a:ext cx="243000" cy="4309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1127-A5EA-41B4-99EC-B9801813447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9 Rectángulo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42840" y="85680"/>
            <a:ext cx="6778800" cy="8942400"/>
            <a:chOff x="42840" y="85680"/>
            <a:chExt cx="6778800" cy="894240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42840" y="85680"/>
              <a:ext cx="6778800" cy="894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46160" y="190440"/>
              <a:ext cx="6565680" cy="872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11 Rectángulo"/>
          <p:cNvSpPr/>
          <p:nvPr/>
        </p:nvSpPr>
        <p:spPr>
          <a:xfrm flipV="1">
            <a:off x="52560" y="3167640"/>
            <a:ext cx="6759360" cy="1220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2 Rectángulo"/>
          <p:cNvSpPr/>
          <p:nvPr/>
        </p:nvSpPr>
        <p:spPr>
          <a:xfrm>
            <a:off x="52560" y="3122640"/>
            <a:ext cx="6759360" cy="6012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4 Rectángulo"/>
          <p:cNvSpPr/>
          <p:nvPr/>
        </p:nvSpPr>
        <p:spPr>
          <a:xfrm>
            <a:off x="50760" y="3292560"/>
            <a:ext cx="6761160" cy="601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440" y="1930320"/>
            <a:ext cx="5829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628880" y="8254800"/>
            <a:ext cx="1857240" cy="63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600120" y="8229240"/>
            <a:ext cx="3000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159120" y="8367840"/>
            <a:ext cx="243000" cy="4309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46AF-357A-4F23-87C6-A9C03613108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8 Rectángulo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7 Rectángulo redondeado"/>
          <p:cNvSpPr/>
          <p:nvPr/>
        </p:nvSpPr>
        <p:spPr>
          <a:xfrm>
            <a:off x="47520" y="93600"/>
            <a:ext cx="6761160" cy="8923320"/>
          </a:xfrm>
          <a:custGeom>
            <a:avLst/>
            <a:gdLst>
              <a:gd name="textAreaLeft" fmla="*/ 97560 w 6761160"/>
              <a:gd name="textAreaRight" fmla="*/ 6663600 w 6761160"/>
              <a:gd name="textAreaTop" fmla="*/ 97560 h 8923320"/>
              <a:gd name="textAreaBottom" fmla="*/ 8825760 h 8923320"/>
            </a:gdLst>
            <a:ahLst/>
            <a:rect l="textAreaLeft" t="textAreaTop" r="textAreaRight" b="textAreaBottom"/>
            <a:pathLst>
              <a:path w="21600" h="28507">
                <a:moveTo>
                  <a:pt x="1065" y="0"/>
                </a:moveTo>
                <a:arcTo wR="1065" hR="1065" stAng="16200000" swAng="-5400000"/>
                <a:lnTo>
                  <a:pt x="0" y="27442"/>
                </a:lnTo>
                <a:arcTo wR="1065" hR="1065" stAng="10800000" swAng="-5400000"/>
                <a:lnTo>
                  <a:pt x="20535" y="2850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9 Rectángulo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10 Rectángulo redondeado"/>
          <p:cNvSpPr/>
          <p:nvPr/>
        </p:nvSpPr>
        <p:spPr>
          <a:xfrm>
            <a:off x="47520" y="93600"/>
            <a:ext cx="6761160" cy="8923320"/>
          </a:xfrm>
          <a:custGeom>
            <a:avLst/>
            <a:gdLst>
              <a:gd name="textAreaLeft" fmla="*/ 97560 w 6761160"/>
              <a:gd name="textAreaRight" fmla="*/ 6663600 w 6761160"/>
              <a:gd name="textAreaTop" fmla="*/ 97560 h 8923320"/>
              <a:gd name="textAreaBottom" fmla="*/ 8825760 h 8923320"/>
            </a:gdLst>
            <a:ahLst/>
            <a:rect l="textAreaLeft" t="textAreaTop" r="textAreaRight" b="textAreaBottom"/>
            <a:pathLst>
              <a:path w="21600" h="28507">
                <a:moveTo>
                  <a:pt x="1065" y="0"/>
                </a:moveTo>
                <a:arcTo wR="1065" hR="1065" stAng="16200000" swAng="-5400000"/>
                <a:lnTo>
                  <a:pt x="0" y="27442"/>
                </a:lnTo>
                <a:arcTo wR="1065" hR="1065" stAng="10800000" swAng="-5400000"/>
                <a:lnTo>
                  <a:pt x="20535" y="2850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440" y="1930320"/>
            <a:ext cx="5829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628880" y="8254800"/>
            <a:ext cx="1857240" cy="63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685440" y="8229240"/>
            <a:ext cx="2971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159120" y="8369280"/>
            <a:ext cx="243000" cy="4309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B5C8-AA58-4A3E-8B12-09D34B79736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8 Rectángulo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7 Rectángulo redondeado"/>
          <p:cNvSpPr/>
          <p:nvPr/>
        </p:nvSpPr>
        <p:spPr>
          <a:xfrm>
            <a:off x="47520" y="93600"/>
            <a:ext cx="6761160" cy="8923320"/>
          </a:xfrm>
          <a:custGeom>
            <a:avLst/>
            <a:gdLst>
              <a:gd name="textAreaLeft" fmla="*/ 97560 w 6761160"/>
              <a:gd name="textAreaRight" fmla="*/ 6663600 w 6761160"/>
              <a:gd name="textAreaTop" fmla="*/ 97560 h 8923320"/>
              <a:gd name="textAreaBottom" fmla="*/ 8825760 h 8923320"/>
            </a:gdLst>
            <a:ahLst/>
            <a:rect l="textAreaLeft" t="textAreaTop" r="textAreaRight" b="textAreaBottom"/>
            <a:pathLst>
              <a:path w="21600" h="28507">
                <a:moveTo>
                  <a:pt x="1065" y="0"/>
                </a:moveTo>
                <a:arcTo wR="1065" hR="1065" stAng="16200000" swAng="-5400000"/>
                <a:lnTo>
                  <a:pt x="0" y="27442"/>
                </a:lnTo>
                <a:arcTo wR="1065" hR="1065" stAng="10800000" swAng="-5400000"/>
                <a:lnTo>
                  <a:pt x="20535" y="2850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9 Rectángulo"/>
          <p:cNvSpPr/>
          <p:nvPr/>
        </p:nvSpPr>
        <p:spPr>
          <a:xfrm flipV="1">
            <a:off x="50760" y="6244560"/>
            <a:ext cx="6754680" cy="120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0 Rectángulo"/>
          <p:cNvSpPr/>
          <p:nvPr/>
        </p:nvSpPr>
        <p:spPr>
          <a:xfrm>
            <a:off x="50760" y="6200640"/>
            <a:ext cx="6754680" cy="604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11 Rectángulo"/>
          <p:cNvSpPr/>
          <p:nvPr/>
        </p:nvSpPr>
        <p:spPr>
          <a:xfrm>
            <a:off x="50760" y="6364440"/>
            <a:ext cx="6754680" cy="6480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440" y="1930320"/>
            <a:ext cx="5829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628880" y="8254800"/>
            <a:ext cx="1857240" cy="63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685800" y="8229240"/>
            <a:ext cx="291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159120" y="8367840"/>
            <a:ext cx="243000" cy="4309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2CD3-F29D-4EBE-96E6-BDACC7A5294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56800" y="5000760"/>
            <a:ext cx="4800600" cy="29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Hojas caen sin cesa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 sopla muy </a:t>
            </a: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fuerte el vient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Sabrosos frutos de otoñ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Hemos cogido del sue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Castañas, nueces, bellota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Avellanas y las almendr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Reunidos todos muy ju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Una gran fiesta hemos hecho</a:t>
            </a:r>
            <a:r>
              <a:rPr b="0" lang="es-ES" sz="1800" spc="-1" strike="noStrike">
                <a:solidFill>
                  <a:srgbClr val="696464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356760" y="2071800"/>
            <a:ext cx="6172200" cy="19605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OESÍAS DE OTOÑO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pic>
        <p:nvPicPr>
          <p:cNvPr id="230" name="1201154541718.MP3" descr=""/>
          <p:cNvPicPr/>
          <p:nvPr/>
        </p:nvPicPr>
        <p:blipFill>
          <a:blip r:embed="rId1"/>
          <a:stretch/>
        </p:blipFill>
        <p:spPr>
          <a:xfrm>
            <a:off x="6072120" y="4143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999720" y="4286160"/>
            <a:ext cx="48006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Times New Roman"/>
              </a:rPr>
              <a:t>Ha llegado muy callado con su vestido marr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Times New Roman"/>
              </a:rPr>
              <a:t>Levantando un aire fresco y anunciando su es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Times New Roman"/>
              </a:rPr>
              <a:t>Os dice adiós el verano, llueve y llueve sin para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Times New Roman"/>
              </a:rPr>
              <a:t>Los árboles, las hojitas, peladitos quedará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Times New Roman"/>
              </a:rPr>
              <a:t>Tiene  el otoño un pincel y pinta el campo do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Times New Roman"/>
              </a:rPr>
              <a:t>Las  nubes las pinta grises y al sol lo pinta nubl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Times New Roman"/>
              </a:rPr>
              <a:t>Los pájaros en bandada, vuelan hacia otro luga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Times New Roman"/>
              </a:rPr>
              <a:t>Porque aquí tienen mucho frío y no pueden pi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Times New Roman"/>
              </a:rPr>
              <a:t>Dile a mamá que te ponga el jersey y la chaquet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Times New Roman"/>
              </a:rPr>
              <a:t>En los pies botas de agua y en las mano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c000"/>
                </a:solidFill>
                <a:latin typeface="Times New Roman"/>
              </a:rPr>
              <a:t>un paragu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342720" y="2008080"/>
            <a:ext cx="6172200" cy="19591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OESÍAS DE OTOÑO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971280" y="4267080"/>
            <a:ext cx="4800600" cy="40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e3611"/>
                </a:solidFill>
                <a:latin typeface="Times New Roman"/>
              </a:rPr>
              <a:t>El otoño empieza, lo siento en el air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e3611"/>
                </a:solidFill>
                <a:latin typeface="Times New Roman"/>
              </a:rPr>
              <a:t>Es que las hojitas comienzan el ba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e3611"/>
                </a:solidFill>
                <a:latin typeface="Times New Roman"/>
              </a:rPr>
              <a:t>Ellas se sueltan, giran hacia abaj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e3611"/>
                </a:solidFill>
                <a:latin typeface="Times New Roman"/>
              </a:rPr>
              <a:t>Y a los barrenderos , dan mucho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e3611"/>
                </a:solidFill>
                <a:latin typeface="Times New Roman"/>
              </a:rPr>
              <a:t>El otoño es bonito, con días de so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e3611"/>
                </a:solidFill>
                <a:latin typeface="Times New Roman"/>
              </a:rPr>
              <a:t>Y todo el paisaje se pone marr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e3611"/>
                </a:solidFill>
                <a:latin typeface="Times New Roman"/>
              </a:rPr>
              <a:t>Marrón y amarillo, como los membrillo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e3611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9e3611"/>
                </a:solidFill>
                <a:latin typeface="Times New Roman"/>
              </a:rPr>
              <a:t>marrón y dorado, todo empapel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e3611"/>
                </a:solidFill>
                <a:latin typeface="Times New Roman"/>
              </a:rPr>
              <a:t>El paisaje cambia, el otoño empiez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e3611"/>
                </a:solidFill>
                <a:latin typeface="Times New Roman"/>
              </a:rPr>
              <a:t>Disfrutemos todos juntos de su bellez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356760" y="2071800"/>
            <a:ext cx="6172200" cy="19605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OESÍAS DE OTOÑO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71280" y="4266720"/>
            <a:ext cx="480060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b050"/>
                </a:solidFill>
                <a:latin typeface="Times New Roman"/>
              </a:rPr>
              <a:t>Castaña, castañita que en el fuego está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b050"/>
                </a:solidFill>
                <a:latin typeface="Times New Roman"/>
              </a:rPr>
              <a:t>Salta, salta, que te quemar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b050"/>
                </a:solidFill>
                <a:latin typeface="Times New Roman"/>
              </a:rPr>
              <a:t>Castaña, castañera que asando castañas está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b050"/>
                </a:solidFill>
                <a:latin typeface="Times New Roman"/>
              </a:rPr>
              <a:t>Ten cuidado, ten cuidado o te quemar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356760" y="2071800"/>
            <a:ext cx="6172200" cy="19605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OESÍAS DE OTOÑO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7" name="2 Subtítulo"/>
          <p:cNvSpPr/>
          <p:nvPr/>
        </p:nvSpPr>
        <p:spPr>
          <a:xfrm>
            <a:off x="971640" y="4267080"/>
            <a:ext cx="4800600" cy="40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71280" y="4267080"/>
            <a:ext cx="48006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030a0"/>
                </a:solidFill>
                <a:latin typeface="Times New Roman"/>
              </a:rPr>
              <a:t>El otoño ha llegado y con él, los virus nos han inundad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030a0"/>
                </a:solidFill>
                <a:latin typeface="Times New Roman"/>
              </a:rPr>
              <a:t>Tos y mocos han acampado y papá y mamá ojo no han peg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030a0"/>
                </a:solidFill>
                <a:latin typeface="Times New Roman"/>
              </a:rPr>
              <a:t>A mi hermana he contagiado con mutación inclu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030a0"/>
                </a:solidFill>
                <a:latin typeface="Times New Roman"/>
              </a:rPr>
              <a:t>Pues ha vomit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030a0"/>
                </a:solidFill>
                <a:latin typeface="Times New Roman"/>
              </a:rPr>
              <a:t>¡qué bonito el otoñ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030a0"/>
                </a:solidFill>
                <a:latin typeface="Times New Roman"/>
              </a:rPr>
              <a:t>¡qué color tan dorad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030a0"/>
                </a:solidFill>
                <a:latin typeface="Times New Roman"/>
              </a:rPr>
              <a:t>¡que buen  aspecto tenemos tan perjudicado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56760" y="2071800"/>
            <a:ext cx="6172200" cy="19605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OESÍAS DE OTOÑO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0" name="2 Subtítulo"/>
          <p:cNvSpPr/>
          <p:nvPr/>
        </p:nvSpPr>
        <p:spPr>
          <a:xfrm>
            <a:off x="971640" y="4267080"/>
            <a:ext cx="4800600" cy="40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éctor</cp:lastModifiedBy>
  <dcterms:modified xsi:type="dcterms:W3CDTF">2011-12-06T22:57:30Z</dcterms:modified>
  <cp:revision>9</cp:revision>
  <dc:subject/>
  <dc:title>POESÍAS DE OTOÑO</dc:title>
</cp:coreProperties>
</file>